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8DFC-5D9C-4FD7-9B39-63A022FE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E399-80D5-4235-A373-B8BBBBEC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C492-667D-427E-A034-904F05505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0006-9500-4152-932A-A7BE3594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9B83-50A7-40E2-8B3F-A6773BBA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075D-EE9E-47ED-A1A6-E745A3AF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8B43-8FC0-4F75-B0F8-057838D4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52A1-B0AB-476F-BF59-F3CA53B8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F6BD-02F8-4A72-82E5-2494DDC7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AC43-BAA3-4B0E-909C-BD3DEC3A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C23C-226E-4BA3-82BA-AB8085FC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869C-2440-443E-BC9D-6B062A7D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2E69-356D-44F9-8A98-B6DC057A0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120" y="4419720"/>
            <a:ext cx="26668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ly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/11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#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762120"/>
            <a:ext cx="8381880" cy="29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&amp;Ms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1219320" y="4267080"/>
            <a:ext cx="3504960" cy="2335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477120" y="2970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Mars"/>
          <p:cNvPicPr/>
          <p:nvPr/>
        </p:nvPicPr>
        <p:blipFill>
          <a:blip r:embed="rId2"/>
          <a:srcRect l="0" t="0" r="51664" b="0"/>
          <a:stretch/>
        </p:blipFill>
        <p:spPr>
          <a:xfrm>
            <a:off x="4114800" y="2895480"/>
            <a:ext cx="4800600" cy="3160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Mars"/>
          <p:cNvPicPr/>
          <p:nvPr/>
        </p:nvPicPr>
        <p:blipFill>
          <a:blip r:embed="rId3"/>
          <a:srcRect l="46667" t="0" r="0" b="0"/>
          <a:stretch/>
        </p:blipFill>
        <p:spPr>
          <a:xfrm>
            <a:off x="609480" y="304920"/>
            <a:ext cx="4876920" cy="2209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69960" y="4075200"/>
            <a:ext cx="2454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4343400"/>
            <a:ext cx="2971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rrest Mars, S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5/16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80" y="4952880"/>
            <a:ext cx="41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eb.mit.edu/invent/iow/mar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 invention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M&amp;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re is a chocolate center and candy co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candy coating prevents chocolate from melting in your 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 1954 M&amp;M peanut chocolate candies were introduc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 Inventor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Forrest E. 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rest E. Mars was born on March 21, 19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rest’s parents were divor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 was born in Minnesota but was raised in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 entered University of California but then got transferred to Yale University.  He completed a degree in engineering in 19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 father, Frank C. Mars owned a successful candy shop in Chic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 worked in his father’s candy shop for a 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 died on July 1,1999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7:58:46Z</dcterms:created>
  <dc:creator>install</dc:creator>
  <dc:description/>
  <dc:language>en-US</dc:language>
  <cp:lastModifiedBy>install</cp:lastModifiedBy>
  <dcterms:modified xsi:type="dcterms:W3CDTF">2011-06-01T17:35:50Z</dcterms:modified>
  <cp:revision>7</cp:revision>
  <dc:subject/>
  <dc:title>Slide 1</dc:title>
</cp:coreProperties>
</file>